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DCD-C091-45AC-A3E2-49ED2211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79C5-1F95-4FE8-BBC9-F9BFDBA9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39A-B940-4839-8BD1-96FBE6CA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B1C-4DD4-4D5E-B580-C1264524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8608-ABE2-44F9-AD20-F5A6239B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775D-1903-4085-BE1A-CDD64942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961A-F8F1-45A0-B23E-BC9BAD5C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CA07-5BD3-41FE-9C74-A54C5EE2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5B34-5192-499F-BFAF-A55D89D2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615-F421-4340-B503-DF385F4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A212A-E03A-4522-9C31-6922EE18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F636-B30C-47A8-9D10-0307BD4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2B0A-07C5-4199-8106-C2CDB4F2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6065-883C-4967-A8D1-7A4EE24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2B8E-CBE1-4FDD-B34E-6B85E319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16C7-3600-4D31-8F9B-660F20F0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6249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52D1-E485-49B1-9D0D-377DD543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033-1405-4CD3-83CD-91AF6E98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A84-3090-43F1-B1D5-F15397B6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2B5-DB1E-48F0-81F8-3330213C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9E8-F674-43FD-B0D9-80E3333D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F7DB-90AA-4C80-904A-83F1969B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6249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6EF3-AA17-4632-9DA4-49887904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6249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0B3A-79DC-4D72-835A-4174534C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8600-CC7C-416D-8A68-3172889C0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DD0B-DF05-4590-AF50-72DA3D6163B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Tahoma"/>
              </a:rPr>
              <a:t>Chapter 19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Tahoma"/>
              </a:rPr>
              <a:t>TOWARD AN URBAN SOCIETY, 1877–1900</a:t>
            </a:r>
            <a:endParaRPr b="0" lang="en-US" sz="57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0" y="37339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Arial"/>
              </a:rPr>
              <a:t>America Past and Present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ighth Edi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 algn="ctr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Divine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Breen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Fredrickson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Williams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Gross  </a:t>
            </a:r>
            <a:r>
              <a:rPr b="0" lang="en-US" sz="1400" spc="-1" strike="noStrike">
                <a:solidFill>
                  <a:srgbClr val="eaeaea"/>
                </a:solidFill>
                <a:latin typeface="Wingdings 2"/>
                <a:ea typeface="Wingdings 2"/>
              </a:rPr>
              <a:t>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  <a:ea typeface="ＭＳ Ｐゴシック"/>
              </a:rPr>
              <a:t>  Brand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657864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pyright 2007, Pearson Education, Inc., publishing as Longman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ind Begga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Blind Beggar"/>
          <p:cNvPicPr/>
          <p:nvPr/>
        </p:nvPicPr>
        <p:blipFill>
          <a:blip r:embed="rId1"/>
          <a:stretch/>
        </p:blipFill>
        <p:spPr>
          <a:xfrm>
            <a:off x="1762200" y="1600200"/>
            <a:ext cx="56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ve Cent Lodging, Bayard Street, 1889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8" name="Picture 6" descr="Riis, Five Cents Lodging"/>
          <p:cNvPicPr/>
          <p:nvPr/>
        </p:nvPicPr>
        <p:blipFill>
          <a:blip r:embed="rId1"/>
          <a:stretch/>
        </p:blipFill>
        <p:spPr>
          <a:xfrm>
            <a:off x="1770120" y="1600200"/>
            <a:ext cx="5602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Downtown “Morgu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“Unlicensed Saloon”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6" descr="Morgue"/>
          <p:cNvPicPr/>
          <p:nvPr/>
        </p:nvPicPr>
        <p:blipFill>
          <a:blip r:embed="rId1"/>
          <a:stretch/>
        </p:blipFill>
        <p:spPr>
          <a:xfrm>
            <a:off x="1762200" y="1600200"/>
            <a:ext cx="561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ice Station Lodger and B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Picture 6" descr="Riis, Plank for a Bed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aiting for Lodging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Police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4" name="Picture 6" descr="Waiting for the Lodging"/>
          <p:cNvPicPr/>
          <p:nvPr/>
        </p:nvPicPr>
        <p:blipFill>
          <a:blip r:embed="rId1"/>
          <a:stretch/>
        </p:blipFill>
        <p:spPr>
          <a:xfrm>
            <a:off x="2590920" y="1447920"/>
            <a:ext cx="4292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omen’s Lodging Roo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West 47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t.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6" name="Picture 6" descr="Women's Lodging Room"/>
          <p:cNvPicPr/>
          <p:nvPr/>
        </p:nvPicPr>
        <p:blipFill>
          <a:blip r:embed="rId1"/>
          <a:stretch/>
        </p:blipFill>
        <p:spPr>
          <a:xfrm>
            <a:off x="1523880" y="1600200"/>
            <a:ext cx="625788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Men’s Lodging Room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t West 47</a:t>
            </a:r>
            <a:r>
              <a:rPr b="0" lang="en-US" sz="4000" spc="-1" strike="noStrike" baseline="30000">
                <a:solidFill>
                  <a:srgbClr val="ffffcc"/>
                </a:solidFill>
                <a:latin typeface="Tahoma"/>
              </a:rPr>
              <a:t>th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St. St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6" descr="Men's Lodging Room"/>
          <p:cNvPicPr/>
          <p:nvPr/>
        </p:nvPicPr>
        <p:blipFill>
          <a:blip r:embed="rId1"/>
          <a:stretch/>
        </p:blipFill>
        <p:spPr>
          <a:xfrm>
            <a:off x="1447920" y="1652760"/>
            <a:ext cx="633384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eddler's Cellar Be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0" name="Picture 6" descr="Pedlars Who Slept in the Cellar"/>
          <p:cNvPicPr/>
          <p:nvPr/>
        </p:nvPicPr>
        <p:blipFill>
          <a:blip r:embed="rId1"/>
          <a:stretch/>
        </p:blipFill>
        <p:spPr>
          <a:xfrm>
            <a:off x="1714680" y="1600200"/>
            <a:ext cx="57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berry Be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2" name="Picture 6" descr="Mulberry Bend"/>
          <p:cNvPicPr/>
          <p:nvPr/>
        </p:nvPicPr>
        <p:blipFill>
          <a:blip r:embed="rId1"/>
          <a:stretch/>
        </p:blipFill>
        <p:spPr>
          <a:xfrm>
            <a:off x="1371600" y="1689120"/>
            <a:ext cx="65055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at Boys Learn on Their Street Playground (ca.1902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Street Playground"/>
          <p:cNvPicPr/>
          <p:nvPr/>
        </p:nvPicPr>
        <p:blipFill>
          <a:blip r:embed="rId1"/>
          <a:stretch/>
        </p:blipFill>
        <p:spPr>
          <a:xfrm>
            <a:off x="1771560" y="1600200"/>
            <a:ext cx="5600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Lure of the C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ity becomes a symbol of the new America between 1870–19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plosive urban grow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urces included immigration, movement from countrysid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ix cities over 500,000 by 190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rangers in a New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90: 15% of U.S. population was foreign-bo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immigrants moved for economic reasons and entered through Ellis Islan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1900, most urban dwellers foreign-born or children of immigra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880s: Eastern, southern European immigrants prompt resurgent Nativis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tion to the United States, 1870–190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2" name="Picture 6" descr="DIVI386"/>
          <p:cNvPicPr/>
          <p:nvPr/>
        </p:nvPicPr>
        <p:blipFill>
          <a:blip r:embed="rId1"/>
          <a:stretch/>
        </p:blipFill>
        <p:spPr>
          <a:xfrm>
            <a:off x="1371600" y="1828800"/>
            <a:ext cx="6248520" cy="464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reign-born Population, 189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4" name="Picture 7" descr="DIVI7233398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Content Placeholder 3" descr="comic3.jpeg"/>
          <p:cNvPicPr/>
          <p:nvPr/>
        </p:nvPicPr>
        <p:blipFill>
          <a:blip r:embed="rId1"/>
          <a:srcRect l="-44184" t="0" r="-44184" b="0"/>
          <a:stretch/>
        </p:blipFill>
        <p:spPr>
          <a:xfrm>
            <a:off x="457200" y="762120"/>
            <a:ext cx="82296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mmigrants and the City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amilies and Ethnic Identi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s marry within own ethnic group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e children born to immigrants than to native-born America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 association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serve old country language and custom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id the process of adjust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igrants establish religious, educational institutions, media which preserve cultural tradi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House That Tweed Bui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 party machines headed by “boss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 bosses notoriously corrupt, e.g. William Tweed of New York C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st trade services for vote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bosses stayed in pow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 organizational ski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elped immigra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st bosses improve conditions in c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6" name="Content Placeholder 3" descr="tweed.jpeg"/>
          <p:cNvPicPr/>
          <p:nvPr/>
        </p:nvPicPr>
        <p:blipFill>
          <a:blip r:embed="rId1"/>
          <a:srcRect l="-25095" t="0" r="-25095" b="0"/>
          <a:stretch/>
        </p:blipFill>
        <p:spPr>
          <a:xfrm>
            <a:off x="533520" y="685800"/>
            <a:ext cx="8229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rban and Rural Population, 1870–1900 (in millio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0" name="Picture 6" descr="DIVI391"/>
          <p:cNvPicPr/>
          <p:nvPr/>
        </p:nvPicPr>
        <p:blipFill>
          <a:blip r:embed="rId1"/>
          <a:stretch/>
        </p:blipFill>
        <p:spPr>
          <a:xfrm>
            <a:off x="1905120" y="1905120"/>
            <a:ext cx="5105160" cy="44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anners and Mo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ictorian morality dictates dress, mann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testant religious values strong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 underpinned by Protestantism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isure and Entertai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mestic leisure: card, parlor, yard ga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timental ballads, ragtime popul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ntertainment outside hom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ircus immensely popul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ball, football, basketball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reet lights, streetcars make evening a time for entertainment and pleas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enements and th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blems of Overcrowding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ements house working c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ames Ware and dumbbell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nement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crow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adequate sanit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venti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luted wat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 probl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public healt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venile crime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hanges in Family Lif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52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rbanization, industrialization alter famil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mily life virtually disappears among poorly paid working clas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burban commute takes fathers from middle-class hom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mesticity encouraged, women housebound, child-oriented consume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ite middle-class birth rates decli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ducating the Mas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urpose of public education was to train people for life and work in industrial socie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aching unimaginative, learning passive,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Webster’s Spellers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 McGuffey’s Read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gregation, poverty compound problems of Southern 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6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: Plessy v. Ferguson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lows "separate but equal" school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gher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lleges and universities flouris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ater emphasis on professions, researc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re women achieve college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igher Education: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frican American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48960"/>
            <a:ext cx="8229600" cy="554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frican Americans usually confined to all-black institutions like Tuskegee Institute in Alaba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ker T. Washington and the practice of accommod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ntrate on practical edu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.E.B. DuBois: Demand quality, integrated edu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tirrings of Ref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Darwinists see attempts at social reform as useless and harmfu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ers begin to seek changes in U.S. living, working condi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ogress and Pover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enry George:  The rich getting richer, the poor, po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rge’s solution:  Tax land, wealth’s  sourc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New Currents in Social Though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589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arence Darrow rejected Social Darwinism, argued poverty at crime’s roo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ichard T. Ely’s “Younger Economics” urged government intervention in economic affai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orstein Veblen’s </a:t>
            </a:r>
            <a:r>
              <a:rPr b="0" i="1" lang="en-US" sz="2800" spc="-1" strike="noStrike">
                <a:solidFill>
                  <a:srgbClr val="eaeaea"/>
                </a:solidFill>
                <a:latin typeface="Arial"/>
              </a:rPr>
              <a:t>Theory of the Leisure Clas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asserted that classic economic “laws” were masks for human greed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iberal Protestants preach "Social Gospel"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rpose:  Reform industrial societ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eans:  Introduce Christian standards into  economic sphe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ettlement Hous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amous Hous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86: Stanton Coit’s Neighborhood Guild,  New York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89: Jane Addams' Hull House, Chica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2: Robert A. Woods’ South End House, Bos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893: Lillian Wald’s Henry Street Settlement, New Y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haracteristic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ny workers wome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lassical, practical education for po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y social composition of neighborhoo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Crisis in Social Welf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pression of 1893 reveals insufficiency of private charity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professionalism in social wor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ew efforts to understand poverty’s sourc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creasing calls for government interven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al tensions engender sense of cris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Pluralistic Societ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migration and urban growth reshaped American politics and cul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1920, most Americans lived in cities and almost half of them were descendants of people who arrived after the Revolu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ciety experienced a crisis between 1870 and 19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formers turned to state and federal government for remedies to social ills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acob Riis: Photograph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4" name="Picture 9" descr="USAriis"/>
          <p:cNvPicPr/>
          <p:nvPr/>
        </p:nvPicPr>
        <p:blipFill>
          <a:blip r:embed="rId1"/>
          <a:stretch/>
        </p:blipFill>
        <p:spPr>
          <a:xfrm>
            <a:off x="3352680" y="1600200"/>
            <a:ext cx="295272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andit’s Roost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59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1/2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Mulberry Street (Ca. 1888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6" descr="Riis, Bandit's Roost"/>
          <p:cNvPicPr/>
          <p:nvPr/>
        </p:nvPicPr>
        <p:blipFill>
          <a:blip r:embed="rId1"/>
          <a:stretch/>
        </p:blipFill>
        <p:spPr>
          <a:xfrm>
            <a:off x="2755800" y="1600200"/>
            <a:ext cx="3630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talian Rag Picker (1888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6" descr="Riis, Italian Ragpicker"/>
          <p:cNvPicPr/>
          <p:nvPr/>
        </p:nvPicPr>
        <p:blipFill>
          <a:blip r:embed="rId1"/>
          <a:stretch/>
        </p:blipFill>
        <p:spPr>
          <a:xfrm>
            <a:off x="1803240" y="1600200"/>
            <a:ext cx="5535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llen’s Alley, Cherry Hil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6" descr="Mullen's Alley"/>
          <p:cNvPicPr/>
          <p:nvPr/>
        </p:nvPicPr>
        <p:blipFill>
          <a:blip r:embed="rId1"/>
          <a:stretch/>
        </p:blipFill>
        <p:spPr>
          <a:xfrm>
            <a:off x="2424240" y="1523880"/>
            <a:ext cx="43336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ub Basement, Mulberry Bend, 3:00 A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6" descr="Riis, Basement Pub"/>
          <p:cNvPicPr/>
          <p:nvPr/>
        </p:nvPicPr>
        <p:blipFill>
          <a:blip r:embed="rId1"/>
          <a:stretch/>
        </p:blipFill>
        <p:spPr>
          <a:xfrm>
            <a:off x="1139760" y="1600200"/>
            <a:ext cx="6864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lack and Tan “Dive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6" descr="Black-and-Tan Dive"/>
          <p:cNvPicPr/>
          <p:nvPr/>
        </p:nvPicPr>
        <p:blipFill>
          <a:blip r:embed="rId1"/>
          <a:stretch/>
        </p:blipFill>
        <p:spPr>
          <a:xfrm>
            <a:off x="1790640" y="1600200"/>
            <a:ext cx="5562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0T09:42:06Z</dcterms:created>
  <dc:creator>HstM3</dc:creator>
  <dc:description/>
  <cp:keywords/>
  <dc:language>en-US</dc:language>
  <cp:lastModifiedBy>Matthew Myers</cp:lastModifiedBy>
  <cp:lastPrinted>2012-09-11T10:32:31Z</cp:lastPrinted>
  <dcterms:modified xsi:type="dcterms:W3CDTF">2012-01-03T13:20:00Z</dcterms:modified>
  <cp:revision>12</cp:revision>
  <dc:subject/>
  <dc:title>TOWARD AN URBAN SOCIETY, 1877-1900</dc:title>
</cp:coreProperties>
</file>